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0D4-D446-4B3B-854F-E6624782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515-540B-4A82-A262-123C7E8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23B-04AC-4DC2-93DD-28CE28D0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11B-C42D-46AD-BA55-2A1DE671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34405-C17D-4975-A976-ED5B8DC6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0BA7-7CB2-4261-9950-8EEFCBA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01CE5-AA86-4A87-BEAB-838C3813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140CA-6E7B-4F36-A350-E92FD1F0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AA45-8E4D-403B-88CE-930B0297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D24B3-6757-408B-88D6-2D992D73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85F3F-DAAC-42C9-9084-0CBBE00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502-DF03-4287-922E-9278D308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EC099-060F-479E-9494-0DB3727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7155D-D646-4472-837B-BFC2F9E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A90B-754D-41E0-97AA-D1D809E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16B00-C5DF-4824-9D80-105599B8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E755B-22E1-4677-BE71-388C723D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4CE-15D2-43AB-95CF-38041F68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F90-3532-4382-84EB-F44DF8F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0B0-E533-4132-ADDE-D687CAC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CBA-14F2-421C-8AE2-BCDE062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E53-2B90-4629-80D0-C008E33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B47-6662-4502-9275-0DC68F5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DF7-4527-476D-9136-A172FC5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7EC3-8C02-4275-9729-8E183BE25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0A9C-0B21-4EC2-8540-FA1C4EEE3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ort.iatp.org.ua/" TargetMode="External"/><Relationship Id="rId3" Type="http://schemas.openxmlformats.org/officeDocument/2006/relationships/hyperlink" Target="http://www.sport.iatp.org.ua/" TargetMode="External"/><Relationship Id="rId4" Type="http://schemas.openxmlformats.org/officeDocument/2006/relationships/hyperlink" Target="http://www.sport.iatp.org.ua/" TargetMode="External"/><Relationship Id="rId5" Type="http://schemas.openxmlformats.org/officeDocument/2006/relationships/hyperlink" Target="http://www.sport.iatp.org.ua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0920" y="134136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765000"/>
            <a:ext cx="864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Как гимнастика влияет на здоровье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348000" y="5877000"/>
            <a:ext cx="540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:Ивашова Елена 8б класс  город Сыктывка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влияние гимнастики на здоровье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8000" y="2884320"/>
            <a:ext cx="4824720" cy="335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, что такое гимна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какие упражнения полезно делать по утр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обраться, что нам даёт гимна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МНАСТИК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мплекс физических упражнений, позволяющих развить группы мышц, нормализовать свой вес, улучшить кровяное давление, то есть привести наш организм в гармонию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тренние упражн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УКИ И ГРУДЬ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еди руки в стороны на уровне плеч. Согни руки в локтях, так, чтобы кисти оказались на уровне груди, затем вернись в исходное положение. Повтори 20 раз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и на ширине плеч. Согни руки в локтях и соедини ладони на уровне груди. Быстрыми, короткими движениями пытайся толкать локти друг к другу. Повтори упражнение 15-20 ра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ТАЛ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Ляг на спину, руки вдоль туловища. Подними од-новременно выпрямленные ноги, верхнюю часть туловища и руки, так, чтобы кисти коснулись пальцев ног. Лишь ягодицы должны оставаться на полу. Повтори 10 ра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ЖИВОТ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яг на пол в той же позиции. Подними обе ноги перпендику-лярно полу и согни их в коле-нях. Теперь, держа вытянутые как можно дальше руки, плав-но раскачивай верхнюю часть тела, предварительно оторвав ее от пола - 15 см вперед и столько же назад. Выполните 20 ра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ГОДИЦЫ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яг на кровати на живот, руки вдоль туловища. Напряги ноги, затем подними левую как можно выше и считай до пяти. Опусти. Подними правую. Выполняя упражнение, старайся тянуть носок. Повтори по 10 раз каждой ног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НОГ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яг на правый бок, подопри голову согнутой в локте рукой. Подними выпрямленную левую ногу как можно выше, считай до десяти. Повтори еще два раза. А потом перевернись на бок и три раза повтори упражнение с правой ног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ОБЩИЙ ТРЕНИН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тобы закрепить эффект упражнений, встань на цыпочки (ноги вместе) и вытяни руки перед собой. Медленно сгибай колени, пока ягодицы не коснутся лодыжек. Вернись в прежнее положение. Старайся все время находиться на по-лупальца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тренние упражн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нам дают упражне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бк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09564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162864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ов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067200" cy="237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61400" y="522936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расивый ст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3016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Выв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С чего начать утреннюю зарядку"/>
          <p:cNvPicPr/>
          <p:nvPr/>
        </p:nvPicPr>
        <p:blipFill>
          <a:blip r:embed="rId2"/>
          <a:stretch/>
        </p:blipFill>
        <p:spPr>
          <a:xfrm>
            <a:off x="2700360" y="3429000"/>
            <a:ext cx="318456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1628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изические упражнения благоприятно влияют на организ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лучшает работоспособность головного мозга, внутренних органов, органов зрения и слуха,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им образом держит организм человека в тону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sport.iatp.org.ua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7:08:21Z</dcterms:created>
  <dc:creator>vector</dc:creator>
  <dc:description/>
  <dc:language>en-US</dc:language>
  <cp:lastModifiedBy>Алексей</cp:lastModifiedBy>
  <dcterms:modified xsi:type="dcterms:W3CDTF">2009-12-20T17:19:33Z</dcterms:modified>
  <cp:revision>15</cp:revision>
  <dc:subject/>
  <dc:title>Слайд 1</dc:title>
</cp:coreProperties>
</file>